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BC7B5-E1D9-4F5C-8A43-B8E759356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C5472-BEE0-4ED7-B2E3-997982B45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i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p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F5F05-1B98-4AAF-99F5-AAD0831C3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.S. (Input Ques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2974C-D56F-455B-A397-23794D6033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p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lute:  Megan in b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ative:  Sarah in haircuts and Megan in p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lute:  Justin in flats.  Kevin and Justin share in brea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ative:  Justin in flats and Tim in brea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lute:  Kevin in bo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ative:  Kevin in dishes.  Hannah in vacu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p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lute:  Americans in bo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ative:  American in computers and China in T.V.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A3FFF-4699-4F99-9E06-7C9A4DDD56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6442-0355-42F5-A619-A49AE6342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5CC1-118E-48E5-94C4-00356F8E1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ADAEB2-EDFB-41A8-BDE4-BFA1129CC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1CEDE8-5E7F-4E99-B243-AE3100FE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75B190-DF31-4D53-9838-3C242EB66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F2AFE8-5826-41B1-BECB-54B94B8B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34367A-02A8-4794-80CC-7074ABD3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05DE39-559D-417D-944F-6AD81DFF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13857B-AE1D-4505-9CC2-5DDCFBD8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89C317-3750-4942-8EBB-29E0DFAC5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16A9A5-7835-4600-9EB2-37BC96D82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C99C7E-BED3-4AC3-BBCC-08A8BBDB9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0C0B-6274-4272-AF39-ECF58DAA3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1AE0F1-EAE5-4493-B8F3-0CE0BCFEC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57B440-8CF0-4A0D-8F9B-322B1E205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F84D00-4240-4BDB-81F7-2306419D1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66E087-1014-4895-9505-6851BCFC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DEDA24-ADE9-4758-A53F-E82AD4AB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B42CF2-2E95-4416-9AC8-8AE055BA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CF9C4F-246F-47B8-8DDE-2298F753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11276E-6584-4FD1-84D9-7A8C114A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F54E3B-2C5B-4B92-8F38-A0F1DFD3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684F79-59EE-45EB-B32C-84EB80443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BF88-29B8-4FF2-A6D6-FDE28D3A0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01F77D-6ACA-44AC-981C-77811FD64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A407EC-2963-4A02-8C15-7634804E6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300701-A1BA-4711-8C00-FB2DBD5F4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B99030-A52C-4D69-9AA3-4CADA4C89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F26895-6A10-4B7D-A58A-78D3EB9A6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C178AC-CBA5-4EF7-8E01-E3C817FEE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AADC6E-F3DA-4189-8536-E815BED1E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CC2B09-9C1F-4DD3-975D-957DB776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C0A512-52BD-4EF0-83E3-3EDFEAD5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DF2F96-02A8-4008-9D6D-2EECFD29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DBC77-CD42-4B49-B117-1D0E184AA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29CD9E-61AC-47BD-B662-B61EFD3EC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D549B2-2C86-49B8-BFC1-DE2468F39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602DE4-790B-431E-B9DA-2A14B4D65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6B483B-0DC5-49C3-A2E1-DA04C0A8E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89AFE1-3F09-4983-92BC-743B6426B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7B3024-A5C9-46A9-853E-F122CD7B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F3E238-401A-42D5-B5F5-FCF215CAF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458950-B26F-49FF-BF62-100A3D541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19217E-C47B-4266-A4CE-0457C02B6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0D4ADD-8DAF-47F2-9A4B-1361F202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F7B25-FE5B-4C59-A31A-DEB7201A8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DCFF43-CD1D-4AD3-A9E7-F11F1626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17541A-1A91-4606-A41B-77E2526A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511892-C15E-445E-A893-CC4C3B264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DF538C-FD49-48CA-A448-1CA3204D8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221BC3-DF8F-4666-86E9-CD613ED6A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3227E-A77F-453E-825E-B1263D736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5F5CD-15FD-4F20-922B-3DBF8277F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C844F-647B-4883-8A3F-774183C53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6EEF8-A949-4996-9AD8-A288328EF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4B80C-85DA-4DDD-93E1-6D02DF15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0271-7F67-4743-B2CF-AF38F0FC4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03CBB-8FA0-4C27-A59D-759F2161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E780A-A378-4523-B9C1-1AC75136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D4F60-1CEC-4F61-B562-6BBDEB39A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30FF3-3B2D-4804-B410-BB93E93BE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2C301-2057-4B42-8C05-13EC391C4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812A5-29F1-4AC0-869C-E9278E32B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AB682-1123-420D-A6FC-1E1301F56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0FABF-F636-4BD7-A245-05E5EEA2F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44FD0-F8E0-4B14-AD48-9D0D5BA22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C249A-BDFF-474F-85A7-D5F076D54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A775-6F6A-4441-A6D5-5CECD023A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DB25E-AFA7-465C-8707-01747883B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C4EEC-DC61-40E5-AD03-9928A012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25382-280B-484A-8393-17E943F6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F2D98-A328-425D-9C05-EDA2DD3A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D191A-B33B-498D-A063-9EC7B51F9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27346-98B5-4B5D-A24D-504172F0E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EB7A7-1652-486C-93D4-D6EDE19D4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3234A-FA15-417D-86D5-6DDFB44AF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4CDF0-7A92-4C80-B7E4-1FDE742D1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65551-3C3A-4443-B1AA-DB9CBECF0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D76A-A474-46CF-9C9B-84AA8BC52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C96E4-B94C-4D4D-B8F1-4EEF3918B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FDACC-105A-4D10-AE59-FAE727380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23227-710B-45F4-B9BD-553E93E38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02AF8-9040-4AF9-AE72-D3128178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169D5-C18B-480F-95FD-00F4F982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6BD85-FB00-458D-B71D-9734518F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FB5ED-0393-4003-8528-FD7A3AB51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67CDB-4B39-432D-A9B9-9E32EF381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FD9FB-591D-40C1-AE72-9C47EFA12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A02D2-2908-4EF3-9F78-6D95E6CE1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B9B8-8ED4-49AE-B01D-C8F4BA8BB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937A0-6BD4-4A49-BB58-CC91A911B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E7FD0-3C80-48F3-A51D-D4B0BA748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AD9A7-CED7-41C6-B4E3-5F6BC615A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E738D-04DB-4EA5-B295-3863CDD8F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D07AD-F76F-4136-B7EE-C9F48715F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50B78-4CD3-4258-923D-5FC29E62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2B55F-E7DD-40EC-8C15-4F3315E6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E6DF4-D738-4420-9E98-80E8B1E4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1E4DC-6432-44E8-AC96-5216E3D90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F3F01-59AB-46B2-B18D-7AFD734E0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F011-6D4A-4484-800A-5284F61B7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E0AFE-3519-4623-B8F0-C9011F2A6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212E4-B5C4-4F93-AA99-E244622FD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C699F-E2B3-4824-9D3A-DC289E949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6B316-13BB-446D-9B0F-8844714ED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1A7AC-A44B-4C72-B293-8623668F4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0D8A8-280E-466E-BB6A-2FD16ABC8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2C2CB-4EE9-4B0F-9B16-7A39E8BC5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B5078-B3AB-4194-93D6-B0D40CF1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41E12-C8B1-4E48-BD32-0F63E897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EFC98A-96B6-48BB-8427-978CE624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2A62-FCCD-459F-B99D-6405759B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79E87D-F94A-4E12-9B9F-25A1E1EE9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8727E-81D1-493E-826B-4977CFF70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45299-7CFD-4A03-AE55-053CBAC72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450A4-A761-4C26-B8AC-5C8FD7AE0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5EBF4-1398-407C-B5C3-4FE23D684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0FB64-C097-4ED0-A658-ACC7BC02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E9247E-98D9-4E7F-83AD-7693B3F29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8D3FFC-04F2-40BD-902A-738FEFB52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897152-EB0B-4CBD-AE51-0E658AF81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B910F0-8A03-4788-AE64-2CFC9A24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DBFA-D38E-43E8-ADD0-9CC2416A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CC6323-AA61-44A5-AA5F-85DAC870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2D1589-D5D8-46C5-AE35-9895AFAA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AEDAB2-031D-42C1-8A84-6F86AA703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68AF6A-32FF-4A53-919B-61D2F917F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0129A-E69D-457D-9B66-8763727C7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244FA1-3CD6-423A-8FE3-820FD2188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FFA93B-F0C9-4062-8F34-13FE355DD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8132F5-2902-4957-8FCD-5D12DD257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6DB247-BB93-4D2A-A228-A666645AD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2B38CE-C109-4070-A991-6C9BA4019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C92A-2EA5-41B1-8A0E-A607ADCF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12CDF6-4517-4F0F-9BD0-D9A0E4178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CE4614-A4AB-4E0D-9679-01D63D20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13B673-8E6D-4D86-B66C-97D85E05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9FD1D5-736F-4924-ADFF-DE95EDFE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21EEB2-B081-4E27-9D1F-EB055415C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F521CC-8135-466D-B8A1-FE1964C51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34F701-88A8-413E-B466-1C90EE87B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A46B1E-19F3-4777-BC87-093957962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3FABAA-4FFA-400D-A314-D48251EB6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67385E-A0DF-421F-AB85-24CB36B74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F7B88-6A0B-4559-8BF3-B50F64E8FE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10B3C-12D9-4D71-A2FD-F4823BD874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EFB2A-71B9-4465-A65C-E2D34148E9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1A74D-3FB6-4D25-96F0-6104167BBB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7977F-6946-41CB-9D33-90938CC7C4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878DF-933C-4976-BE39-3CD8149BB9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48AB0-179F-41A9-A7D9-4A5D1BAAB0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A969F-D3AB-4936-B268-F11DFE48BF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81FAC-2520-4EE4-AE20-0C9CE59ABD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8E270-1809-4643-A5A3-77D456369B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752D4-535C-4ABB-A762-AF870F2DC6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DB546-8F9C-4060-AD6A-14D2746300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Unit 5: International Trad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0" name="Picture 6" descr="calvin faces"/>
          <p:cNvPicPr/>
          <p:nvPr/>
        </p:nvPicPr>
        <p:blipFill>
          <a:blip r:embed="rId1"/>
          <a:stretch/>
        </p:blipFill>
        <p:spPr>
          <a:xfrm>
            <a:off x="2438280" y="2133720"/>
            <a:ext cx="4227480" cy="4343400"/>
          </a:xfrm>
          <a:prstGeom prst="rect">
            <a:avLst/>
          </a:prstGeom>
          <a:ln w="0">
            <a:noFill/>
          </a:ln>
        </p:spPr>
      </p:pic>
      <p:sp>
        <p:nvSpPr>
          <p:cNvPr id="501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1F566-4C15-4AC8-A89C-076095498E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1026"/>
          <p:cNvSpPr/>
          <p:nvPr/>
        </p:nvSpPr>
        <p:spPr>
          <a:xfrm>
            <a:off x="2243880" y="0"/>
            <a:ext cx="495468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International Tr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Line 1028"/>
          <p:cNvSpPr/>
          <p:nvPr/>
        </p:nvSpPr>
        <p:spPr>
          <a:xfrm>
            <a:off x="5635800" y="4276800"/>
            <a:ext cx="868320" cy="197784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Line 1029"/>
          <p:cNvSpPr/>
          <p:nvPr/>
        </p:nvSpPr>
        <p:spPr>
          <a:xfrm>
            <a:off x="2076480" y="3319560"/>
            <a:ext cx="2646360" cy="290664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3" name="Group 1030"/>
          <p:cNvGrpSpPr/>
          <p:nvPr/>
        </p:nvGrpSpPr>
        <p:grpSpPr>
          <a:xfrm>
            <a:off x="1447920" y="1663560"/>
            <a:ext cx="6854760" cy="5194080"/>
            <a:chOff x="1447920" y="1663560"/>
            <a:chExt cx="6854760" cy="5194080"/>
          </a:xfrm>
        </p:grpSpPr>
        <p:sp>
          <p:nvSpPr>
            <p:cNvPr id="564" name="Rectangle 1031"/>
            <p:cNvSpPr/>
            <p:nvPr/>
          </p:nvSpPr>
          <p:spPr>
            <a:xfrm rot="16200000">
              <a:off x="865080" y="3943800"/>
              <a:ext cx="1528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ugar (ton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Rectangle 1032"/>
            <p:cNvSpPr/>
            <p:nvPr/>
          </p:nvSpPr>
          <p:spPr>
            <a:xfrm rot="16200000">
              <a:off x="4322520" y="3929760"/>
              <a:ext cx="1528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ugar (ton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Rectangle 1033"/>
            <p:cNvSpPr/>
            <p:nvPr/>
          </p:nvSpPr>
          <p:spPr>
            <a:xfrm>
              <a:off x="1722960" y="1663560"/>
              <a:ext cx="367200" cy="47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3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2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Rectangle 1034"/>
            <p:cNvSpPr/>
            <p:nvPr/>
          </p:nvSpPr>
          <p:spPr>
            <a:xfrm>
              <a:off x="5250600" y="3133440"/>
              <a:ext cx="367200" cy="32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2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Rectangle 1035"/>
            <p:cNvSpPr/>
            <p:nvPr/>
          </p:nvSpPr>
          <p:spPr>
            <a:xfrm>
              <a:off x="2302920" y="6252840"/>
              <a:ext cx="26060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     10    15    20    25    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Rectangle 1036"/>
            <p:cNvSpPr/>
            <p:nvPr/>
          </p:nvSpPr>
          <p:spPr>
            <a:xfrm>
              <a:off x="5893920" y="6265800"/>
              <a:ext cx="17038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     10    15    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Rectangle 1037"/>
            <p:cNvSpPr/>
            <p:nvPr/>
          </p:nvSpPr>
          <p:spPr>
            <a:xfrm>
              <a:off x="2606040" y="6494400"/>
              <a:ext cx="1566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heat (ton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Rectangle 1038"/>
            <p:cNvSpPr/>
            <p:nvPr/>
          </p:nvSpPr>
          <p:spPr>
            <a:xfrm>
              <a:off x="6079680" y="6494400"/>
              <a:ext cx="1566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heat (ton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2" name="Group 1039"/>
            <p:cNvGrpSpPr/>
            <p:nvPr/>
          </p:nvGrpSpPr>
          <p:grpSpPr>
            <a:xfrm>
              <a:off x="5589720" y="1747800"/>
              <a:ext cx="2712960" cy="4519080"/>
              <a:chOff x="5589720" y="1747800"/>
              <a:chExt cx="2712960" cy="4519080"/>
            </a:xfrm>
          </p:grpSpPr>
          <p:sp>
            <p:nvSpPr>
              <p:cNvPr id="573" name="Line 1040"/>
              <p:cNvSpPr/>
              <p:nvPr/>
            </p:nvSpPr>
            <p:spPr>
              <a:xfrm>
                <a:off x="5629320" y="1747800"/>
                <a:ext cx="0" cy="45190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Line 1041"/>
              <p:cNvSpPr/>
              <p:nvPr/>
            </p:nvSpPr>
            <p:spPr>
              <a:xfrm>
                <a:off x="5589720" y="6253920"/>
                <a:ext cx="271296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Group 1042"/>
            <p:cNvGrpSpPr/>
            <p:nvPr/>
          </p:nvGrpSpPr>
          <p:grpSpPr>
            <a:xfrm>
              <a:off x="2046240" y="1728720"/>
              <a:ext cx="3019320" cy="4555800"/>
              <a:chOff x="2046240" y="1728720"/>
              <a:chExt cx="3019320" cy="4555800"/>
            </a:xfrm>
          </p:grpSpPr>
          <p:sp>
            <p:nvSpPr>
              <p:cNvPr id="576" name="Line 1043"/>
              <p:cNvSpPr/>
              <p:nvPr/>
            </p:nvSpPr>
            <p:spPr>
              <a:xfrm>
                <a:off x="2073240" y="1728720"/>
                <a:ext cx="0" cy="45558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Line 1044"/>
              <p:cNvSpPr/>
              <p:nvPr/>
            </p:nvSpPr>
            <p:spPr>
              <a:xfrm>
                <a:off x="2046240" y="6244920"/>
                <a:ext cx="30193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578" name=""/>
          <p:cNvGraphicFramePr/>
          <p:nvPr/>
        </p:nvGraphicFramePr>
        <p:xfrm>
          <a:off x="0" y="1380960"/>
          <a:ext cx="1371600" cy="5477040"/>
        </p:xfrm>
        <a:graphic>
          <a:graphicData uri="http://schemas.openxmlformats.org/drawingml/2006/table">
            <a:tbl>
              <a:tblPr/>
              <a:tblGrid>
                <a:gridCol w="731880"/>
                <a:gridCol w="639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9" name=""/>
          <p:cNvGraphicFramePr/>
          <p:nvPr/>
        </p:nvGraphicFramePr>
        <p:xfrm>
          <a:off x="7772400" y="1380960"/>
          <a:ext cx="1371600" cy="474696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0" name="Rectangle 1145"/>
          <p:cNvSpPr/>
          <p:nvPr/>
        </p:nvSpPr>
        <p:spPr>
          <a:xfrm>
            <a:off x="1981080" y="2514600"/>
            <a:ext cx="351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The US Specializes and makes ONLY Wh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1146"/>
          <p:cNvSpPr/>
          <p:nvPr/>
        </p:nvSpPr>
        <p:spPr>
          <a:xfrm>
            <a:off x="5562720" y="2514600"/>
            <a:ext cx="217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Brazil Makes ONLY Su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30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C72C3-C645-4101-A0B6-961A09A0D6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1"/>
          <a:srcRect l="5754" t="19177" r="4560" b="14973"/>
          <a:stretch/>
        </p:blipFill>
        <p:spPr>
          <a:xfrm>
            <a:off x="152280" y="152280"/>
            <a:ext cx="1600200" cy="1003320"/>
          </a:xfrm>
          <a:prstGeom prst="rect">
            <a:avLst/>
          </a:prstGeom>
          <a:ln w="0">
            <a:noFill/>
          </a:ln>
        </p:spPr>
      </p:pic>
      <p:pic>
        <p:nvPicPr>
          <p:cNvPr id="584" name="" descr=""/>
          <p:cNvPicPr/>
          <p:nvPr/>
        </p:nvPicPr>
        <p:blipFill>
          <a:blip r:embed="rId2"/>
          <a:stretch/>
        </p:blipFill>
        <p:spPr>
          <a:xfrm>
            <a:off x="7772400" y="0"/>
            <a:ext cx="1204920" cy="1200240"/>
          </a:xfrm>
          <a:prstGeom prst="rect">
            <a:avLst/>
          </a:prstGeom>
          <a:ln w="0">
            <a:noFill/>
          </a:ln>
        </p:spPr>
      </p:pic>
      <p:sp>
        <p:nvSpPr>
          <p:cNvPr id="585" name="Rectangle 1145"/>
          <p:cNvSpPr/>
          <p:nvPr/>
        </p:nvSpPr>
        <p:spPr>
          <a:xfrm>
            <a:off x="2666880" y="15238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1145"/>
          <p:cNvSpPr/>
          <p:nvPr/>
        </p:nvSpPr>
        <p:spPr>
          <a:xfrm>
            <a:off x="5867280" y="15238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raz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1027"/>
          <p:cNvSpPr/>
          <p:nvPr/>
        </p:nvSpPr>
        <p:spPr>
          <a:xfrm>
            <a:off x="1576440" y="762120"/>
            <a:ext cx="594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Trade: 1 Wheat for 1.5 Sug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3"/>
          <p:cNvSpPr/>
          <p:nvPr/>
        </p:nvSpPr>
        <p:spPr>
          <a:xfrm>
            <a:off x="1667880" y="787320"/>
            <a:ext cx="57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RADE SHIFTS THE PPC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Line 10"/>
          <p:cNvSpPr/>
          <p:nvPr/>
        </p:nvSpPr>
        <p:spPr>
          <a:xfrm>
            <a:off x="5587920" y="4276800"/>
            <a:ext cx="868320" cy="197784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Line 11"/>
          <p:cNvSpPr/>
          <p:nvPr/>
        </p:nvSpPr>
        <p:spPr>
          <a:xfrm>
            <a:off x="2028960" y="3319560"/>
            <a:ext cx="2646360" cy="290664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2"/>
          <p:cNvSpPr/>
          <p:nvPr/>
        </p:nvSpPr>
        <p:spPr>
          <a:xfrm rot="16200000">
            <a:off x="817200" y="3944160"/>
            <a:ext cx="1528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gar (t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3"/>
          <p:cNvSpPr/>
          <p:nvPr/>
        </p:nvSpPr>
        <p:spPr>
          <a:xfrm rot="16200000">
            <a:off x="4275000" y="3929760"/>
            <a:ext cx="1528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gar (t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4"/>
          <p:cNvSpPr/>
          <p:nvPr/>
        </p:nvSpPr>
        <p:spPr>
          <a:xfrm>
            <a:off x="1675440" y="1663560"/>
            <a:ext cx="367200" cy="47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5"/>
          <p:cNvSpPr/>
          <p:nvPr/>
        </p:nvSpPr>
        <p:spPr>
          <a:xfrm>
            <a:off x="5202720" y="3133800"/>
            <a:ext cx="367200" cy="32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16"/>
          <p:cNvSpPr/>
          <p:nvPr/>
        </p:nvSpPr>
        <p:spPr>
          <a:xfrm>
            <a:off x="2255400" y="6253200"/>
            <a:ext cx="2606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     10    15    20    25    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5846400" y="6265800"/>
            <a:ext cx="1703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     10    15    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18"/>
          <p:cNvSpPr/>
          <p:nvPr/>
        </p:nvSpPr>
        <p:spPr>
          <a:xfrm>
            <a:off x="2857680" y="2606760"/>
            <a:ext cx="1978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TER T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19"/>
          <p:cNvSpPr/>
          <p:nvPr/>
        </p:nvSpPr>
        <p:spPr>
          <a:xfrm>
            <a:off x="6284880" y="4098960"/>
            <a:ext cx="1978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TER T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20"/>
          <p:cNvSpPr/>
          <p:nvPr/>
        </p:nvSpPr>
        <p:spPr>
          <a:xfrm flipH="1">
            <a:off x="3333600" y="3300480"/>
            <a:ext cx="735120" cy="6080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21"/>
          <p:cNvSpPr/>
          <p:nvPr/>
        </p:nvSpPr>
        <p:spPr>
          <a:xfrm flipH="1">
            <a:off x="6302520" y="4700520"/>
            <a:ext cx="644400" cy="5907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22"/>
          <p:cNvSpPr/>
          <p:nvPr/>
        </p:nvSpPr>
        <p:spPr>
          <a:xfrm>
            <a:off x="2558160" y="6494400"/>
            <a:ext cx="1566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at (t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23"/>
          <p:cNvSpPr/>
          <p:nvPr/>
        </p:nvSpPr>
        <p:spPr>
          <a:xfrm>
            <a:off x="6031800" y="6494400"/>
            <a:ext cx="1566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at (t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24"/>
          <p:cNvSpPr/>
          <p:nvPr/>
        </p:nvSpPr>
        <p:spPr>
          <a:xfrm>
            <a:off x="5581800" y="4265640"/>
            <a:ext cx="1198440" cy="198288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25"/>
          <p:cNvGrpSpPr/>
          <p:nvPr/>
        </p:nvGrpSpPr>
        <p:grpSpPr>
          <a:xfrm>
            <a:off x="5541840" y="1747800"/>
            <a:ext cx="2712960" cy="4519440"/>
            <a:chOff x="5541840" y="1747800"/>
            <a:chExt cx="2712960" cy="4519440"/>
          </a:xfrm>
        </p:grpSpPr>
        <p:sp>
          <p:nvSpPr>
            <p:cNvPr id="605" name="Line 26"/>
            <p:cNvSpPr/>
            <p:nvPr/>
          </p:nvSpPr>
          <p:spPr>
            <a:xfrm>
              <a:off x="5581440" y="1747800"/>
              <a:ext cx="0" cy="4519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Line 27"/>
            <p:cNvSpPr/>
            <p:nvPr/>
          </p:nvSpPr>
          <p:spPr>
            <a:xfrm>
              <a:off x="5541840" y="6254280"/>
              <a:ext cx="27129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7" name="Line 28"/>
          <p:cNvSpPr/>
          <p:nvPr/>
        </p:nvSpPr>
        <p:spPr>
          <a:xfrm flipH="1" flipV="1">
            <a:off x="2021040" y="1865160"/>
            <a:ext cx="2673360" cy="439128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Group 29"/>
          <p:cNvGrpSpPr/>
          <p:nvPr/>
        </p:nvGrpSpPr>
        <p:grpSpPr>
          <a:xfrm>
            <a:off x="1998720" y="1728720"/>
            <a:ext cx="3019320" cy="4555800"/>
            <a:chOff x="1998720" y="1728720"/>
            <a:chExt cx="3019320" cy="4555800"/>
          </a:xfrm>
        </p:grpSpPr>
        <p:sp>
          <p:nvSpPr>
            <p:cNvPr id="609" name="Line 30"/>
            <p:cNvSpPr/>
            <p:nvPr/>
          </p:nvSpPr>
          <p:spPr>
            <a:xfrm>
              <a:off x="2025720" y="1728720"/>
              <a:ext cx="0" cy="4555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31"/>
            <p:cNvSpPr/>
            <p:nvPr/>
          </p:nvSpPr>
          <p:spPr>
            <a:xfrm>
              <a:off x="1998720" y="6244920"/>
              <a:ext cx="30193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Rectangle 32"/>
          <p:cNvSpPr/>
          <p:nvPr/>
        </p:nvSpPr>
        <p:spPr>
          <a:xfrm>
            <a:off x="2243880" y="0"/>
            <a:ext cx="495468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International Tr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Slide Number Placeholder 31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7F09-C36F-4E31-905B-046D30F63D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3" name="" descr=""/>
          <p:cNvPicPr/>
          <p:nvPr/>
        </p:nvPicPr>
        <p:blipFill>
          <a:blip r:embed="rId1"/>
          <a:srcRect l="5754" t="19177" r="4560" b="14973"/>
          <a:stretch/>
        </p:blipFill>
        <p:spPr>
          <a:xfrm>
            <a:off x="152280" y="152280"/>
            <a:ext cx="1600200" cy="1003320"/>
          </a:xfrm>
          <a:prstGeom prst="rect">
            <a:avLst/>
          </a:prstGeom>
          <a:ln w="0">
            <a:noFill/>
          </a:ln>
        </p:spPr>
      </p:pic>
      <p:pic>
        <p:nvPicPr>
          <p:cNvPr id="614" name="" descr=""/>
          <p:cNvPicPr/>
          <p:nvPr/>
        </p:nvPicPr>
        <p:blipFill>
          <a:blip r:embed="rId2"/>
          <a:stretch/>
        </p:blipFill>
        <p:spPr>
          <a:xfrm>
            <a:off x="7772400" y="0"/>
            <a:ext cx="1204920" cy="1200240"/>
          </a:xfrm>
          <a:prstGeom prst="rect">
            <a:avLst/>
          </a:prstGeom>
          <a:ln w="0">
            <a:noFill/>
          </a:ln>
        </p:spPr>
      </p:pic>
      <p:sp>
        <p:nvSpPr>
          <p:cNvPr id="615" name="Rectangle 1145"/>
          <p:cNvSpPr/>
          <p:nvPr/>
        </p:nvSpPr>
        <p:spPr>
          <a:xfrm>
            <a:off x="2666880" y="15238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Rectangle 1145"/>
          <p:cNvSpPr/>
          <p:nvPr/>
        </p:nvSpPr>
        <p:spPr>
          <a:xfrm>
            <a:off x="5867280" y="15238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raz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Line 3"/>
          <p:cNvSpPr/>
          <p:nvPr/>
        </p:nvSpPr>
        <p:spPr>
          <a:xfrm>
            <a:off x="5334120" y="4952880"/>
            <a:ext cx="838080" cy="129564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4"/>
          <p:cNvSpPr/>
          <p:nvPr/>
        </p:nvSpPr>
        <p:spPr>
          <a:xfrm>
            <a:off x="2133720" y="4267080"/>
            <a:ext cx="2590560" cy="198144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9" name="Group 5"/>
          <p:cNvGrpSpPr/>
          <p:nvPr/>
        </p:nvGrpSpPr>
        <p:grpSpPr>
          <a:xfrm>
            <a:off x="1523880" y="2590920"/>
            <a:ext cx="6264000" cy="4187880"/>
            <a:chOff x="1523880" y="2590920"/>
            <a:chExt cx="6264000" cy="4187880"/>
          </a:xfrm>
        </p:grpSpPr>
        <p:sp>
          <p:nvSpPr>
            <p:cNvPr id="620" name="Rectangle 6"/>
            <p:cNvSpPr/>
            <p:nvPr/>
          </p:nvSpPr>
          <p:spPr>
            <a:xfrm rot="16200000">
              <a:off x="941040" y="4196880"/>
              <a:ext cx="1528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ugar (ton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Rectangle 7"/>
            <p:cNvSpPr/>
            <p:nvPr/>
          </p:nvSpPr>
          <p:spPr>
            <a:xfrm rot="16200000">
              <a:off x="4100400" y="4184280"/>
              <a:ext cx="1528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ugar (ton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Rectangle 8"/>
            <p:cNvSpPr/>
            <p:nvPr/>
          </p:nvSpPr>
          <p:spPr>
            <a:xfrm>
              <a:off x="1775160" y="2590920"/>
              <a:ext cx="367200" cy="349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3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2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Rectangle 9"/>
            <p:cNvSpPr/>
            <p:nvPr/>
          </p:nvSpPr>
          <p:spPr>
            <a:xfrm>
              <a:off x="4998960" y="3754440"/>
              <a:ext cx="367200" cy="227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2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Rectangle 10"/>
            <p:cNvSpPr/>
            <p:nvPr/>
          </p:nvSpPr>
          <p:spPr>
            <a:xfrm>
              <a:off x="2306160" y="6225840"/>
              <a:ext cx="26060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     10    15    20    25    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Rectangle 11"/>
            <p:cNvSpPr/>
            <p:nvPr/>
          </p:nvSpPr>
          <p:spPr>
            <a:xfrm>
              <a:off x="5587560" y="6233040"/>
              <a:ext cx="17038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     10    15    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Rectangle 12"/>
            <p:cNvSpPr/>
            <p:nvPr/>
          </p:nvSpPr>
          <p:spPr>
            <a:xfrm>
              <a:off x="2581920" y="6414120"/>
              <a:ext cx="1566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heat (ton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Rectangle 13"/>
            <p:cNvSpPr/>
            <p:nvPr/>
          </p:nvSpPr>
          <p:spPr>
            <a:xfrm>
              <a:off x="5756400" y="6415560"/>
              <a:ext cx="1566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heat (ton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8" name="Group 14"/>
            <p:cNvGrpSpPr/>
            <p:nvPr/>
          </p:nvGrpSpPr>
          <p:grpSpPr>
            <a:xfrm>
              <a:off x="5308920" y="2657520"/>
              <a:ext cx="2478960" cy="3578040"/>
              <a:chOff x="5308920" y="2657520"/>
              <a:chExt cx="2478960" cy="3578040"/>
            </a:xfrm>
          </p:grpSpPr>
          <p:sp>
            <p:nvSpPr>
              <p:cNvPr id="629" name="Line 15"/>
              <p:cNvSpPr/>
              <p:nvPr/>
            </p:nvSpPr>
            <p:spPr>
              <a:xfrm>
                <a:off x="5344920" y="2657520"/>
                <a:ext cx="0" cy="35780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Line 16"/>
              <p:cNvSpPr/>
              <p:nvPr/>
            </p:nvSpPr>
            <p:spPr>
              <a:xfrm>
                <a:off x="5308920" y="6225120"/>
                <a:ext cx="247896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Group 17"/>
            <p:cNvGrpSpPr/>
            <p:nvPr/>
          </p:nvGrpSpPr>
          <p:grpSpPr>
            <a:xfrm>
              <a:off x="2070360" y="2642400"/>
              <a:ext cx="2759400" cy="3607200"/>
              <a:chOff x="2070360" y="2642400"/>
              <a:chExt cx="2759400" cy="3607200"/>
            </a:xfrm>
          </p:grpSpPr>
          <p:sp>
            <p:nvSpPr>
              <p:cNvPr id="632" name="Line 18"/>
              <p:cNvSpPr/>
              <p:nvPr/>
            </p:nvSpPr>
            <p:spPr>
              <a:xfrm>
                <a:off x="2094840" y="2642400"/>
                <a:ext cx="0" cy="36072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Line 19"/>
              <p:cNvSpPr/>
              <p:nvPr/>
            </p:nvSpPr>
            <p:spPr>
              <a:xfrm>
                <a:off x="2070360" y="6217920"/>
                <a:ext cx="27594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634" name=""/>
          <p:cNvGraphicFramePr/>
          <p:nvPr/>
        </p:nvGraphicFramePr>
        <p:xfrm>
          <a:off x="304920" y="152280"/>
          <a:ext cx="8305560" cy="1905120"/>
        </p:xfrm>
        <a:graphic>
          <a:graphicData uri="http://schemas.openxmlformats.org/drawingml/2006/table">
            <a:tbl>
              <a:tblPr/>
              <a:tblGrid>
                <a:gridCol w="2768400"/>
                <a:gridCol w="2768760"/>
                <a:gridCol w="2768400"/>
              </a:tblGrid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5" name="Rectangle 52"/>
          <p:cNvSpPr/>
          <p:nvPr/>
        </p:nvSpPr>
        <p:spPr>
          <a:xfrm>
            <a:off x="1908000" y="914400"/>
            <a:ext cx="9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U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Rectangle 53"/>
          <p:cNvSpPr/>
          <p:nvPr/>
        </p:nvSpPr>
        <p:spPr>
          <a:xfrm>
            <a:off x="1829880" y="1523880"/>
            <a:ext cx="114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Braz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Rectangle 54"/>
          <p:cNvSpPr/>
          <p:nvPr/>
        </p:nvSpPr>
        <p:spPr>
          <a:xfrm>
            <a:off x="3888720" y="2286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h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Rectangle 55"/>
          <p:cNvSpPr/>
          <p:nvPr/>
        </p:nvSpPr>
        <p:spPr>
          <a:xfrm>
            <a:off x="6708240" y="228600"/>
            <a:ext cx="118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u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Rectangle 56"/>
          <p:cNvSpPr/>
          <p:nvPr/>
        </p:nvSpPr>
        <p:spPr>
          <a:xfrm>
            <a:off x="3049920" y="9144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Rectangle 57"/>
          <p:cNvSpPr/>
          <p:nvPr/>
        </p:nvSpPr>
        <p:spPr>
          <a:xfrm>
            <a:off x="5793120" y="9144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Rectangle 59"/>
          <p:cNvSpPr/>
          <p:nvPr/>
        </p:nvSpPr>
        <p:spPr>
          <a:xfrm>
            <a:off x="2973600" y="15238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60"/>
          <p:cNvSpPr/>
          <p:nvPr/>
        </p:nvSpPr>
        <p:spPr>
          <a:xfrm>
            <a:off x="5793120" y="15238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Rectangle 61"/>
          <p:cNvSpPr/>
          <p:nvPr/>
        </p:nvSpPr>
        <p:spPr>
          <a:xfrm>
            <a:off x="3582720" y="965160"/>
            <a:ext cx="21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W costs 1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62"/>
          <p:cNvSpPr/>
          <p:nvPr/>
        </p:nvSpPr>
        <p:spPr>
          <a:xfrm>
            <a:off x="6325920" y="965160"/>
            <a:ext cx="21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S costs 1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Rectangle 63"/>
          <p:cNvSpPr/>
          <p:nvPr/>
        </p:nvSpPr>
        <p:spPr>
          <a:xfrm>
            <a:off x="3430080" y="1523880"/>
            <a:ext cx="21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W costs 2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Rectangle 64"/>
          <p:cNvSpPr/>
          <p:nvPr/>
        </p:nvSpPr>
        <p:spPr>
          <a:xfrm>
            <a:off x="6249600" y="1523880"/>
            <a:ext cx="24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S costs 1/2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Rectangle 65"/>
          <p:cNvSpPr/>
          <p:nvPr/>
        </p:nvSpPr>
        <p:spPr>
          <a:xfrm>
            <a:off x="383400" y="2133720"/>
            <a:ext cx="85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Which country has a comparative advantage in whea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Oval 67"/>
          <p:cNvSpPr/>
          <p:nvPr/>
        </p:nvSpPr>
        <p:spPr>
          <a:xfrm>
            <a:off x="2971800" y="685800"/>
            <a:ext cx="2895480" cy="914400"/>
          </a:xfrm>
          <a:prstGeom prst="ellipse">
            <a:avLst/>
          </a:prstGeom>
          <a:noFill/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Oval 68"/>
          <p:cNvSpPr/>
          <p:nvPr/>
        </p:nvSpPr>
        <p:spPr>
          <a:xfrm>
            <a:off x="5791320" y="1371600"/>
            <a:ext cx="2895480" cy="914400"/>
          </a:xfrm>
          <a:prstGeom prst="ellipse">
            <a:avLst/>
          </a:prstGeom>
          <a:noFill/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Rectangle 69"/>
          <p:cNvSpPr/>
          <p:nvPr/>
        </p:nvSpPr>
        <p:spPr>
          <a:xfrm>
            <a:off x="938520" y="3200400"/>
            <a:ext cx="6945840" cy="137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Which country should EXPORT Sug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Which country should EXPORT Wheat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Which country should IMPORT Whea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Slide Number Placeholder 41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DAF27-DC2C-4A47-AB96-722FC538A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rcRect l="5754" t="19177" r="4560" b="14973"/>
          <a:stretch/>
        </p:blipFill>
        <p:spPr>
          <a:xfrm>
            <a:off x="152280" y="5334120"/>
            <a:ext cx="1600200" cy="100332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2"/>
          <a:stretch/>
        </p:blipFill>
        <p:spPr>
          <a:xfrm>
            <a:off x="7772400" y="5105520"/>
            <a:ext cx="1204920" cy="119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Picture 2" descr="http://www.ih.k12.oh.us/hsslonim/AP_Economics/MacVisual/6-2.ht11.gif"/>
          <p:cNvPicPr/>
          <p:nvPr/>
        </p:nvPicPr>
        <p:blipFill>
          <a:blip r:embed="rId1"/>
          <a:srcRect l="0" t="7958" r="0" b="0"/>
          <a:stretch/>
        </p:blipFill>
        <p:spPr>
          <a:xfrm>
            <a:off x="0" y="304920"/>
            <a:ext cx="6443640" cy="6553080"/>
          </a:xfrm>
          <a:prstGeom prst="rect">
            <a:avLst/>
          </a:prstGeom>
          <a:ln w="0">
            <a:noFill/>
          </a:ln>
        </p:spPr>
      </p:pic>
      <p:sp>
        <p:nvSpPr>
          <p:cNvPr id="655" name="Rectangle 3"/>
          <p:cNvSpPr/>
          <p:nvPr/>
        </p:nvSpPr>
        <p:spPr>
          <a:xfrm>
            <a:off x="4791600" y="2590920"/>
            <a:ext cx="434700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Output Ques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OO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tput: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r goe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486B3-32DE-4137-99B8-94E186ED8A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Picture 3" descr="http://www.ih.k12.oh.us/hsslonim/AP_Economics/MacVisual/6-3.ht12.gif"/>
          <p:cNvPicPr/>
          <p:nvPr/>
        </p:nvPicPr>
        <p:blipFill>
          <a:blip r:embed="rId1"/>
          <a:srcRect l="0" t="7259" r="0" b="10660"/>
          <a:stretch/>
        </p:blipFill>
        <p:spPr>
          <a:xfrm>
            <a:off x="0" y="380880"/>
            <a:ext cx="5913360" cy="5867640"/>
          </a:xfrm>
          <a:prstGeom prst="rect">
            <a:avLst/>
          </a:prstGeom>
          <a:ln w="0">
            <a:noFill/>
          </a:ln>
        </p:spPr>
      </p:pic>
      <p:sp>
        <p:nvSpPr>
          <p:cNvPr id="658" name="Rectangle 4"/>
          <p:cNvSpPr/>
          <p:nvPr/>
        </p:nvSpPr>
        <p:spPr>
          <a:xfrm>
            <a:off x="4691880" y="2414520"/>
            <a:ext cx="43653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put Ques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OU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put: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r goe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E19BA-BE25-4360-B75E-8258E2B38D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Practice</a:t>
            </a:r>
            <a:br>
              <a:rPr sz="8800"/>
            </a:b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FRQ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5"/>
          <p:cNvSpPr/>
          <p:nvPr/>
        </p:nvSpPr>
        <p:spPr>
          <a:xfrm>
            <a:off x="152280" y="3114720"/>
            <a:ext cx="8991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country has an absolute advantage in the production of tractors? Explain how you determined your answ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country has an absolute advantage in the production of cars? Explain how you determined your answ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country has a comparative advantage in the production of cars? Use the concept of opportunity cost to explain how you determined your answ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Xanadu, what is the opportunity cost of producing one c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the two countries specialize and trade with each other, which country will import cars? Explain 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2" name="" descr=""/>
          <p:cNvPicPr/>
          <p:nvPr/>
        </p:nvPicPr>
        <p:blipFill>
          <a:blip r:embed="rId1"/>
          <a:srcRect l="29143" t="34264" r="27679" b="24114"/>
          <a:stretch/>
        </p:blipFill>
        <p:spPr>
          <a:xfrm>
            <a:off x="2209680" y="0"/>
            <a:ext cx="4343400" cy="31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3"/>
          <p:cNvSpPr/>
          <p:nvPr/>
        </p:nvSpPr>
        <p:spPr>
          <a:xfrm>
            <a:off x="0" y="533520"/>
            <a:ext cx="9144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60240" indent="-66024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10 Points Possib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2 Points For EACH: 1 point answer, 1 point explan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4" name="Picture 4" descr=""/>
          <p:cNvPicPr/>
          <p:nvPr/>
        </p:nvPicPr>
        <p:blipFill>
          <a:blip r:embed="rId1"/>
          <a:srcRect l="29143" t="34264" r="27679" b="24114"/>
          <a:stretch/>
        </p:blipFill>
        <p:spPr>
          <a:xfrm>
            <a:off x="2209680" y="3665520"/>
            <a:ext cx="4419720" cy="3192480"/>
          </a:xfrm>
          <a:prstGeom prst="rect">
            <a:avLst/>
          </a:prstGeom>
          <a:ln w="0">
            <a:noFill/>
          </a:ln>
        </p:spPr>
      </p:pic>
      <p:sp>
        <p:nvSpPr>
          <p:cNvPr id="665" name="Rectangle 5"/>
          <p:cNvSpPr/>
          <p:nvPr/>
        </p:nvSpPr>
        <p:spPr>
          <a:xfrm>
            <a:off x="152280" y="1371600"/>
            <a:ext cx="899172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Answe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Xanad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Explanation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Because they can produce more total tractors than Atlanti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Answe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Atlant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Explanation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Because they can produce more total cars than Xanadu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3"/>
          <p:cNvSpPr/>
          <p:nvPr/>
        </p:nvSpPr>
        <p:spPr>
          <a:xfrm>
            <a:off x="0" y="533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60240" indent="-66024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2 Points For EACH: 1 point answer, 1 point explan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7" name="Picture 4" descr=""/>
          <p:cNvPicPr/>
          <p:nvPr/>
        </p:nvPicPr>
        <p:blipFill>
          <a:blip r:embed="rId1"/>
          <a:srcRect l="29143" t="34264" r="27679" b="24114"/>
          <a:stretch/>
        </p:blipFill>
        <p:spPr>
          <a:xfrm>
            <a:off x="2209680" y="3665520"/>
            <a:ext cx="4419720" cy="3192480"/>
          </a:xfrm>
          <a:prstGeom prst="rect">
            <a:avLst/>
          </a:prstGeom>
          <a:ln w="0">
            <a:noFill/>
          </a:ln>
        </p:spPr>
      </p:pic>
      <p:sp>
        <p:nvSpPr>
          <p:cNvPr id="668" name="Rectangle 5"/>
          <p:cNvSpPr/>
          <p:nvPr/>
        </p:nvSpPr>
        <p:spPr>
          <a:xfrm>
            <a:off x="152280" y="914400"/>
            <a:ext cx="899172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Answe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Atlant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Explanation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Because the opportunity cost for Atlantis to make one car is 1/3 a tractor which is less than then the opportunity cost for Xanadu (1 car =2 tractors)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Answe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Opportunity Costs is 2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ract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No explanation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3"/>
          <p:cNvSpPr/>
          <p:nvPr/>
        </p:nvSpPr>
        <p:spPr>
          <a:xfrm>
            <a:off x="0" y="533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60240" indent="-66024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2 Points For EACH: 1 point answer, 1 point explan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0" name="Picture 4" descr=""/>
          <p:cNvPicPr/>
          <p:nvPr/>
        </p:nvPicPr>
        <p:blipFill>
          <a:blip r:embed="rId1"/>
          <a:srcRect l="29143" t="34264" r="27679" b="24114"/>
          <a:stretch/>
        </p:blipFill>
        <p:spPr>
          <a:xfrm>
            <a:off x="2209680" y="3665520"/>
            <a:ext cx="4419720" cy="3192480"/>
          </a:xfrm>
          <a:prstGeom prst="rect">
            <a:avLst/>
          </a:prstGeom>
          <a:ln w="0">
            <a:noFill/>
          </a:ln>
        </p:spPr>
      </p:pic>
      <p:sp>
        <p:nvSpPr>
          <p:cNvPr id="671" name="Rectangle 5"/>
          <p:cNvSpPr/>
          <p:nvPr/>
        </p:nvSpPr>
        <p:spPr>
          <a:xfrm>
            <a:off x="152280" y="1143000"/>
            <a:ext cx="89917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Answe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Xanadu will import c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Explanation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Xanadu should not make cars. They should specialize in making tractors and import cars from Atlantis since they have a lower opportunity co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2"/>
          <p:cNvSpPr/>
          <p:nvPr/>
        </p:nvSpPr>
        <p:spPr>
          <a:xfrm>
            <a:off x="1828800" y="1542960"/>
            <a:ext cx="697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3"/>
          <p:cNvSpPr/>
          <p:nvPr/>
        </p:nvSpPr>
        <p:spPr>
          <a:xfrm>
            <a:off x="685800" y="2666880"/>
            <a:ext cx="766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tional Trad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7134A-9F2C-4E93-9D74-576328E0B0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Text Box 2"/>
          <p:cNvSpPr/>
          <p:nvPr/>
        </p:nvSpPr>
        <p:spPr>
          <a:xfrm>
            <a:off x="1828800" y="1542960"/>
            <a:ext cx="697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Rectangle 3"/>
          <p:cNvSpPr/>
          <p:nvPr/>
        </p:nvSpPr>
        <p:spPr>
          <a:xfrm>
            <a:off x="914400" y="2666880"/>
            <a:ext cx="7620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 of Trad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99383-E723-452F-A552-1D4D7029F7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5" name=""/>
          <p:cNvGraphicFramePr/>
          <p:nvPr/>
        </p:nvGraphicFramePr>
        <p:xfrm>
          <a:off x="304920" y="152280"/>
          <a:ext cx="8305200" cy="1905120"/>
        </p:xfrm>
        <a:graphic>
          <a:graphicData uri="http://schemas.openxmlformats.org/drawingml/2006/table">
            <a:tbl>
              <a:tblPr/>
              <a:tblGrid>
                <a:gridCol w="2768040"/>
                <a:gridCol w="2768760"/>
                <a:gridCol w="2768400"/>
              </a:tblGrid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6" name=""/>
          <p:cNvSpPr/>
          <p:nvPr/>
        </p:nvSpPr>
        <p:spPr>
          <a:xfrm>
            <a:off x="1603440" y="9144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Ken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830960" y="152388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In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352680" y="2286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Pineap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175440" y="228600"/>
            <a:ext cx="136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Rad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049920" y="9144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793120" y="9144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973600" y="15238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793120" y="15238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430800" y="990720"/>
            <a:ext cx="236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P costs 1/3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325920" y="9651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R costs 3 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431160" y="1523880"/>
            <a:ext cx="211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P costs 1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249960" y="152388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R costs 1P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971800" y="685800"/>
            <a:ext cx="2895480" cy="914400"/>
          </a:xfrm>
          <a:prstGeom prst="ellipse">
            <a:avLst/>
          </a:prstGeom>
          <a:noFill/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791320" y="1371600"/>
            <a:ext cx="2895480" cy="914400"/>
          </a:xfrm>
          <a:prstGeom prst="ellipse">
            <a:avLst/>
          </a:prstGeom>
          <a:noFill/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6320" y="2209680"/>
            <a:ext cx="9067680" cy="42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enya wants Rad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If the terms of trade for 1 radio is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greater than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3 pineapples then 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Kenya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is worse off and should make radios on their 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ia wants Pineap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If the terms of trade for 1 radio is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less than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1 pineapple then 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India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is worse off and should make pineapples on their 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terms of trade benefit both countries?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6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76320" y="2438280"/>
            <a:ext cx="9067680" cy="38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ding 1 radio for 2 pineapples will benefit bo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If Kenya produces radios by themselves, they give up 3 Pineapples for each radio. If they can trade 2 pineapples for each radio they are better off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If India produces pineapples by themselves, they give up 1 pineapple for one radio. If they can get 2 pineapples for one radio they are better of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countries trade at a lower opportunity cost than if they made the products themselves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457200" y="304920"/>
          <a:ext cx="8305560" cy="1904760"/>
        </p:xfrm>
        <a:graphic>
          <a:graphicData uri="http://schemas.openxmlformats.org/drawingml/2006/table">
            <a:tbl>
              <a:tblPr/>
              <a:tblGrid>
                <a:gridCol w="2768400"/>
                <a:gridCol w="2768760"/>
                <a:gridCol w="2768400"/>
              </a:tblGrid>
              <a:tr h="74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3" name=""/>
          <p:cNvSpPr/>
          <p:nvPr/>
        </p:nvSpPr>
        <p:spPr>
          <a:xfrm>
            <a:off x="1679760" y="10666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Ken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983240" y="167652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In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352680" y="380880"/>
            <a:ext cx="274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Pineap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324480" y="3808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Rad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202200" y="10666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945400" y="10666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125880" y="167652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945400" y="167652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583080" y="1143000"/>
            <a:ext cx="236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P costs 1/3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478560" y="111744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R costs 3 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583440" y="1676520"/>
            <a:ext cx="211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P costs 1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402240" y="167652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R costs 1P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124080" y="838080"/>
            <a:ext cx="2895840" cy="914400"/>
          </a:xfrm>
          <a:prstGeom prst="ellipse">
            <a:avLst/>
          </a:prstGeom>
          <a:noFill/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943600" y="1523880"/>
            <a:ext cx="2895480" cy="914400"/>
          </a:xfrm>
          <a:prstGeom prst="ellipse">
            <a:avLst/>
          </a:prstGeom>
          <a:noFill/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6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6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2"/>
          <p:cNvSpPr/>
          <p:nvPr/>
        </p:nvSpPr>
        <p:spPr>
          <a:xfrm>
            <a:off x="448200" y="0"/>
            <a:ext cx="814140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Comparative Advantage Prac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Rectangle 3"/>
          <p:cNvSpPr/>
          <p:nvPr/>
        </p:nvSpPr>
        <p:spPr>
          <a:xfrm>
            <a:off x="0" y="673200"/>
            <a:ext cx="9067680" cy="59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Create a chart for each of the following problem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First- Identify if it is a output or input ques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Second-Identify who has the ABSOLUTE ADVAN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Third-Identify who has a COMPARATIVE ADVAN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Fourth- Identify how they should special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Sara gives 2 haircuts or 1 perm and hour. Megan gives 3 haircuts or 2 perms per ho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Justin fixes 16 flats or 8 brakes per day. Tim fixes 14 flats or 8 brakes per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Hannah takes 30 minutes to wash dishes and 1 hour to vacuum the house. Kevin takes 15 minutes to wash dishes and 45 minutes to vacu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Americans produce 50 computers or 50 TVs per hour. Chinese produce 30 computers or 40 TVs per hou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FE0D7-6AE5-4253-BF20-ECBC808C20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0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7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7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7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7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7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" descr=""/>
          <p:cNvPicPr/>
          <p:nvPr/>
        </p:nvPicPr>
        <p:blipFill>
          <a:blip r:embed="rId1"/>
          <a:srcRect l="15042" t="19356" r="7692" b="6856"/>
          <a:stretch/>
        </p:blipFill>
        <p:spPr>
          <a:xfrm>
            <a:off x="152280" y="990720"/>
            <a:ext cx="8839440" cy="4771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06" name=""/>
          <p:cNvSpPr/>
          <p:nvPr/>
        </p:nvSpPr>
        <p:spPr>
          <a:xfrm>
            <a:off x="8305920" y="23623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562720" y="14479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791320" y="25909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781680" y="28954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66880" y="41148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58000" y="25146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848720" y="26668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162920" y="34290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19920" y="25909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638680" y="23623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495680" y="23623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838080" y="30481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114800" y="21337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990720" y="22096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238880" y="28954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553080" y="29718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467480" y="32004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523880" y="3352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590920" y="40384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343400" y="19051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763120" y="42670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752480" y="35053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315200" y="31240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467480" y="3352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620120" y="27432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914400" y="29718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28600" y="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Where does your stuff come fro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(Check the tags on your clothes, shoes, watch, calculator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371600" y="5867280"/>
            <a:ext cx="624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y have your clothes and personal items traveled all around the wor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2"/>
          <p:cNvSpPr/>
          <p:nvPr/>
        </p:nvSpPr>
        <p:spPr>
          <a:xfrm>
            <a:off x="304920" y="0"/>
            <a:ext cx="861048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Why do people trad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26"/>
          <p:cNvSpPr/>
          <p:nvPr/>
        </p:nvSpPr>
        <p:spPr>
          <a:xfrm>
            <a:off x="152280" y="838080"/>
            <a:ext cx="8991720" cy="57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9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sume people didn’t trade. What things would you have to go without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Everything you don’t produce yourself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(Clothes, car, cell phone, bananas, heath care, et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The Point: Everyone specializes in the production of goods and services and trades it to other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would life be like if cities couldn’t trade with cities or states couldn’t trade with stat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Limiting trade would reduce people’s choices and makes the worse off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The Point: More access to trade means more choices and a higher standard of livin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Slide Number Placeholder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79E44-9475-440D-BDD4-82322EC126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Text Box 2"/>
          <p:cNvSpPr/>
          <p:nvPr/>
        </p:nvSpPr>
        <p:spPr>
          <a:xfrm>
            <a:off x="1828800" y="1542960"/>
            <a:ext cx="697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380880" y="2666880"/>
            <a:ext cx="8534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olute and Comparative Advantag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ADA7A-5943-459B-AD79-8A1EC95954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2"/>
          <p:cNvSpPr/>
          <p:nvPr/>
        </p:nvSpPr>
        <p:spPr>
          <a:xfrm>
            <a:off x="298800" y="0"/>
            <a:ext cx="847980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Per Unit Opportunity Cost 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26"/>
          <p:cNvSpPr/>
          <p:nvPr/>
        </p:nvSpPr>
        <p:spPr>
          <a:xfrm>
            <a:off x="152280" y="1600200"/>
            <a:ext cx="8991720" cy="56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sume it costs you $50 to produce 5 t-shirts. What is your PER UNIT cost for each shirt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$10 per shi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Now, take money our of the equation. Instead of producing 5 shirts you could have made 10 ha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your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R UNIT OPPORTUNITY CO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for each shirt in terms of hats given up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1 shirt costs 2 ha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your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R UNIT OPPORTUNITY CO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for each hat in terms of shirts given up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1 hat costs a half of a shi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Slide Number Placeholder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B6552-2189-4017-A665-13F39D7A59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10"/>
          <p:cNvSpPr/>
          <p:nvPr/>
        </p:nvSpPr>
        <p:spPr>
          <a:xfrm>
            <a:off x="3733920" y="838080"/>
            <a:ext cx="487656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=  </a:t>
            </a:r>
            <a:r>
              <a:rPr b="1" lang="en-US" sz="2400" spc="-1" strike="noStrike" u="sng">
                <a:solidFill>
                  <a:srgbClr val="990000"/>
                </a:solidFill>
                <a:uFillTx/>
                <a:latin typeface="Arial"/>
              </a:rPr>
              <a:t>Opportunity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Units Ga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Rectangle 14"/>
          <p:cNvSpPr/>
          <p:nvPr/>
        </p:nvSpPr>
        <p:spPr>
          <a:xfrm>
            <a:off x="228600" y="838080"/>
            <a:ext cx="4876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Per Unit Opportunity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5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5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5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5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2"/>
          <p:cNvSpPr/>
          <p:nvPr/>
        </p:nvSpPr>
        <p:spPr>
          <a:xfrm>
            <a:off x="298800" y="0"/>
            <a:ext cx="847980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Per Unit Opportunity Cost 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26"/>
          <p:cNvSpPr/>
          <p:nvPr/>
        </p:nvSpPr>
        <p:spPr>
          <a:xfrm>
            <a:off x="152280" y="685800"/>
            <a:ext cx="8991720" cy="47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Ronald McDonald can produce 20 pizzas or 200 burgers Papa John can produce 100 pizzas or 200 bur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What is Ronald’s opportunity cost for one pizza in terms of burgers given u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What is Ronald’s opportunity cost for one burger in terms of pizza given u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What is Papa John’s opportunity cost for one pizza in terms of burgers given u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What is Papa John’s opportunity cost for one burger in terms of pizza given u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Slide Number Placeholder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2789B-BE73-49F5-9F8B-DE999E6EE2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0" y="510552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onald has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MPARATIVE ADVANTG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n the production of bur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pa John has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MPARATIVE ADVANTAG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n the production of pizza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105520" y="2057400"/>
            <a:ext cx="31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pizza cost 10 bur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571640" y="2895480"/>
            <a:ext cx="33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burger costs 1/10 piz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952880" y="3733920"/>
            <a:ext cx="31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pizza costs 2 bur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876200" y="4572000"/>
            <a:ext cx="323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burger costs 1/2 piz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2"/>
          <p:cNvSpPr/>
          <p:nvPr/>
        </p:nvSpPr>
        <p:spPr>
          <a:xfrm>
            <a:off x="307800" y="0"/>
            <a:ext cx="84902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Absolute and Comparative Advant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Rectangle 26"/>
          <p:cNvSpPr/>
          <p:nvPr/>
        </p:nvSpPr>
        <p:spPr>
          <a:xfrm>
            <a:off x="228600" y="685800"/>
            <a:ext cx="891540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solute Advan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5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he producer that can produce the most output OR requires the least amount of inputs (resourc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5000"/>
              </a:lnSpc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Ex: Papa John has an </a:t>
            </a:r>
            <a:r>
              <a:rPr b="1" lang="en-US" sz="2800" spc="-1" strike="noStrike" u="sng">
                <a:solidFill>
                  <a:srgbClr val="990000"/>
                </a:solidFill>
                <a:uFillTx/>
                <a:latin typeface="Times New Roman"/>
              </a:rPr>
              <a:t>absolute advantage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 in pizzas because he can produce 100 and Ronald can only make 2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rative Advan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5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he producer with the lowest opportunity co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5000"/>
              </a:lnSpc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Ex: Ronald has a </a:t>
            </a:r>
            <a:r>
              <a:rPr b="1" lang="en-US" sz="2800" spc="-1" strike="noStrike" u="sng">
                <a:solidFill>
                  <a:srgbClr val="990000"/>
                </a:solidFill>
                <a:uFillTx/>
                <a:latin typeface="Times New Roman"/>
              </a:rPr>
              <a:t>comparative advantage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 in burgers because he has a lowest PER UNIT opportunity cost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Slide Number Placeholder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0F89D-137B-4261-A562-128E91DE94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04920" y="4813200"/>
            <a:ext cx="861048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ountries should trade if they have a relatively lower opportunity cost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y should specialize in the good that is “cheaper” for them to produ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5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 Box 2"/>
          <p:cNvSpPr/>
          <p:nvPr/>
        </p:nvSpPr>
        <p:spPr>
          <a:xfrm>
            <a:off x="1828800" y="1542960"/>
            <a:ext cx="697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3"/>
          <p:cNvSpPr/>
          <p:nvPr/>
        </p:nvSpPr>
        <p:spPr>
          <a:xfrm>
            <a:off x="914400" y="2666880"/>
            <a:ext cx="7620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ts of Specialize and Trad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CCC71-CB20-4F76-BA1C-31B0E99FAB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7T03:32:15Z</dcterms:created>
  <dc:creator>jclifford</dc:creator>
  <dc:description/>
  <dc:language>en-US</dc:language>
  <cp:lastModifiedBy>jclifford</cp:lastModifiedBy>
  <dcterms:modified xsi:type="dcterms:W3CDTF">2011-01-14T08:25:47Z</dcterms:modified>
  <cp:revision>75</cp:revision>
  <dc:subject/>
  <dc:title>AP Economics</dc:title>
</cp:coreProperties>
</file>